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1A6-8C16-48D5-9D68-AD6BBB71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130-A47B-4F76-BED3-212CAF6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38C-054E-4FFC-998F-F19C4244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ABC-784B-4074-BE7E-A3BAD418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C7A-633E-41A4-8779-31113B9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954-3924-4335-B43E-D5A271A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E80-65CE-409A-8A8D-1A97A78B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BE4-4E86-42CA-9140-332149B3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7B2-7044-4762-8C22-5F4A4A29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BCB-0FEC-48FE-8594-359A6AA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A8A-1E1C-4E01-8043-E41188CF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FCA-57AD-4399-B259-600DB5B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331-AE6B-4437-9CF7-08F9962A1ACC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Wolfgang Klebsch</cp:lastModifiedBy>
  <dcterms:modified xsi:type="dcterms:W3CDTF">2006-02-10T08:10:59Z</dcterms:modified>
  <cp:revision>59</cp:revision>
  <dc:subject/>
  <dc:title>Jerry - DL</dc:title>
</cp:coreProperties>
</file>